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B5F-2767-4FEF-987F-E7616BAA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8A7-0B83-4DA6-A397-DAF37D7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32E-0161-4275-A7D2-817E1E38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F27-A44B-4F24-AE7A-47185451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F3D-B6B1-4200-B800-F16FD61A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001-F2C6-454E-9B13-599636D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DA-ACBF-4758-9041-1B33855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D11-8CBB-4011-B3AC-A8283B9E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ADF-C983-451B-A218-3E07419E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5EB-01D6-4549-A32E-3A4798A9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C48-CAAC-4246-AE7C-BC76461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54C-3247-49DD-8859-E7A2E959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CE0B-AEAB-4C67-988C-ADCB06F75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Callout 3"/>
          <p:cNvSpPr/>
          <p:nvPr/>
        </p:nvSpPr>
        <p:spPr>
          <a:xfrm rot="20554200">
            <a:off x="1999800" y="1071360"/>
            <a:ext cx="3025800" cy="2912760"/>
          </a:xfrm>
          <a:prstGeom prst="wedgeEllipseCallout">
            <a:avLst>
              <a:gd name="adj1" fmla="val -17069"/>
              <a:gd name="adj2" fmla="val 54324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h the Place You Will G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y Dr. Se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617400" y="7924680"/>
            <a:ext cx="770040" cy="5335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4327200" y="3191040"/>
            <a:ext cx="514440" cy="314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2070000" y="2981160"/>
            <a:ext cx="628920" cy="3353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-26280"/>
            <a:ext cx="6172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4:09:34Z</dcterms:created>
  <dc:creator>dell</dc:creator>
  <dc:description/>
  <dc:language>en-US</dc:language>
  <cp:lastModifiedBy>dell</cp:lastModifiedBy>
  <dcterms:modified xsi:type="dcterms:W3CDTF">2015-03-02T17:31:38Z</dcterms:modified>
  <cp:revision>6</cp:revision>
  <dc:subject/>
  <dc:title>PowerPoint Presentation</dc:title>
</cp:coreProperties>
</file>